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_rels/notesSlide15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7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5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A12-7696-4354-AE73-4572A7339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996-9DCF-4CE5-8748-66298078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yuri.lbl.gov/amigo/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example: ‘chromosome’ in Sequence Ontology and in Cell Component Ontology means differen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olution: two distinct terms involved (qualified by respective name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ecies called ‘non-rabbi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biological species: unknown rabbit. See discussio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6A00-8AEF-486A-9177-F9C01DC2D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3986-8180-409F-81B6-80B126A65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0542-94F7-4303-99B8-B86753970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5537-CA65-4C42-BF13-EC5DE4E8F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4648-D640-4B26-BCF8-406B2BE4C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E30C-8C03-4999-84C9-FFB2A3EF1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6766-E389-45FE-A528-F51325261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6A6F-D307-4573-ADF7-66197AF61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E896-8E8B-40B5-8A1D-62DFF9CE9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7567-771C-45ED-976F-D2795B7EC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6390-4A45-4E36-97C1-03C0E3F13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9316-9EA8-4457-B248-DF4036990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43440" y="6552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D846-9FF0-49C0-893D-4B5EB228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obi.sourceforge.net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3300120"/>
            <a:ext cx="84582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ontology.buffalo.edu/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B21A-7A5E-4B6B-BC6B-86A89DC136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057400"/>
          <a:ext cx="8458200" cy="4267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430B-C9D7-4CCE-8070-FE1C300145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need rules/standards for good on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2206800"/>
            <a:ext cx="84582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ies must be intelligible both to humans (for annotation and curation) and to machines (for reasoning and error-checking): the lack of rules for classification leads to human error and blocks automatic reasoning and error-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ules allow alignment with other ont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37F8-0DFF-4865-A2F4-9B36CBBB6E4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79215"/>
                </a:srgbClr>
              </a:gs>
              <a:gs pos="50000">
                <a:srgbClr val="333399"/>
              </a:gs>
              <a:gs pos="100000">
                <a:srgbClr val="000000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legends for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711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A456-3251-45C8-83FF-DEF20A50898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ndomized controlled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rctbank.ucsf.edu/ontology/outline/inde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93DF-FF14-493F-998C-F6C0128B41E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8D35-8698-4F2A-8954-5E0AA11EE48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at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al-entry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tiv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groun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ping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a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u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636F-08CC-448F-B53F-FC99C1550BB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Most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D614-86C9-4CE6-8F7A-8EFEC43AA8F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DA16-B49F-4103-8A6A-384816A5E94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6984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iv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-size-calc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ression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ping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-variable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cellaneous-outco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valu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2CE1-617F-4250-8CD8-B0F50A97765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632C-5FE8-40E3-B700-C4159C088AA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F24C-43FB-474F-ADB4-4AE3718E336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057400"/>
          <a:ext cx="8458200" cy="4276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2970-DE74-419E-9D14-F82802DD67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top level should look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060B-259E-4781-AF34-898ABA0F3AC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kinds of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curren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ocesses, events, happenin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bjects, qualities, stat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D034-4B94-4536-844A-18ED06623869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tinuants (aka endur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ist </a:t>
            </a:r>
            <a:r>
              <a:rPr b="0" i="1" lang="de-DE" sz="3200" spc="-1" strike="noStrike">
                <a:solidFill>
                  <a:srgbClr val="ffffff"/>
                </a:solidFill>
                <a:latin typeface="Arial"/>
              </a:rPr>
              <a:t>in toto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whenever they exist at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ccurrents (aka proce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271E-542F-453D-9B63-51FA013E2E6C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re a continu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n occur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3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4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D342-CF9F-4146-9F01-3562E30E66F0}" type="slidenum">
              <a:t>113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endent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run without a ru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F6F8-CBD7-4B82-AC07-988E4F67F572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ent vs. independent continu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03160" y="2142720"/>
            <a:ext cx="803592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continuants (organisms, buildings, environ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 continuants (quality, shape, role, propensity, function, status, power,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219F-BD6F-4ABA-8F87-51C52F0ADCB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occurrents are dependent ent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520" y="2571840"/>
            <a:ext cx="84582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6AD4-B9DF-4FA5-BFE3-F4AFF028F91E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FO 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606680"/>
            <a:ext cx="2692440" cy="189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lways 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one or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4" idx="2"/>
            <a:endCxn id="496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4" idx="2"/>
            <a:endCxn id="497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52880" y="1219320"/>
            <a:ext cx="0" cy="502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2DED-38C5-401C-96AF-BB6CA44690AE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A representation of top-level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00400" y="34290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502" idx="2"/>
            <a:endCxn id="50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502" idx="2"/>
            <a:endCxn id="505" idx="0"/>
          </p:cNvCxnSpPr>
          <p:nvPr/>
        </p:nvCxnSpPr>
        <p:spPr>
          <a:xfrm>
            <a:off x="2514240" y="2895480"/>
            <a:ext cx="1562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-47520" y="4537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49760" y="3029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17640" y="4543560"/>
            <a:ext cx="26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8DA1-9D8B-4F00-8B89-F489F37C788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5029200"/>
            <a:ext cx="2133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12" idx="2"/>
            <a:endCxn id="51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2" idx="2"/>
            <a:endCxn id="515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3" idx="2"/>
            <a:endCxn id="516" idx="0"/>
          </p:cNvCxnSpPr>
          <p:nvPr/>
        </p:nvCxnSpPr>
        <p:spPr>
          <a:xfrm flipH="1">
            <a:off x="5638320" y="2895120"/>
            <a:ext cx="12708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13" idx="2"/>
            <a:endCxn id="517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"/>
          <p:cNvCxnSpPr>
            <a:stCxn id="522" idx="0"/>
            <a:endCxn id="515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173D-BE32-41A6-8E66-9E05D5555C2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2057400"/>
          <a:ext cx="8458200" cy="4618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BFO (Basic Formal Ontolog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O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NO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wissPr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e-commerce, etc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OAF top leve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person, topic, document, primary topic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mazon.com 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Library of Congress Cata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3CFC-A188-44ED-A9BE-5D497646E8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9124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5" idx="2"/>
            <a:endCxn id="527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5" idx="2"/>
            <a:endCxn id="528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6" idx="2"/>
            <a:endCxn id="529" idx="0"/>
          </p:cNvCxnSpPr>
          <p:nvPr/>
        </p:nvCxnSpPr>
        <p:spPr>
          <a:xfrm flipH="1">
            <a:off x="5857200" y="2895480"/>
            <a:ext cx="10515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2"/>
            <a:endCxn id="530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stCxn id="535" idx="0"/>
            <a:endCxn id="528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5CE5-2057-40CD-9EF9-C9D4BB5136FD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04920" y="1523880"/>
            <a:ext cx="8381520" cy="3657600"/>
            <a:chOff x="304920" y="1523880"/>
            <a:chExt cx="8381520" cy="3657600"/>
          </a:xfrm>
        </p:grpSpPr>
        <p:sp>
          <p:nvSpPr>
            <p:cNvPr id="539" name=""/>
            <p:cNvSpPr/>
            <p:nvPr/>
          </p:nvSpPr>
          <p:spPr>
            <a:xfrm>
              <a:off x="1299240" y="1523880"/>
              <a:ext cx="255708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19080" y="1528920"/>
              <a:ext cx="2509920" cy="106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ccur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92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87040" y="3033000"/>
              <a:ext cx="163368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720" y="4353480"/>
              <a:ext cx="156276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74720" y="4363920"/>
              <a:ext cx="1565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23960" y="4356000"/>
              <a:ext cx="1491480" cy="81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pat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eg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0016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10920" y="3033000"/>
              <a:ext cx="1775520" cy="125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ide-Effect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ochas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rocess, 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8" name=""/>
            <p:cNvCxnSpPr>
              <a:stCxn id="539" idx="2"/>
              <a:endCxn id="541" idx="0"/>
            </p:cNvCxnSpPr>
            <p:nvPr/>
          </p:nvCxnSpPr>
          <p:spPr>
            <a:xfrm flipH="1">
              <a:off x="1298520" y="2592720"/>
              <a:ext cx="12790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39" idx="2"/>
              <a:endCxn id="542" idx="0"/>
            </p:cNvCxnSpPr>
            <p:nvPr/>
          </p:nvCxnSpPr>
          <p:spPr>
            <a:xfrm>
              <a:off x="2577600" y="2592720"/>
              <a:ext cx="92664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40" idx="2"/>
              <a:endCxn id="546" idx="0"/>
            </p:cNvCxnSpPr>
            <p:nvPr/>
          </p:nvCxnSpPr>
          <p:spPr>
            <a:xfrm flipH="1">
              <a:off x="5693760" y="2592720"/>
              <a:ext cx="9802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40" idx="2"/>
              <a:endCxn id="547" idx="0"/>
            </p:cNvCxnSpPr>
            <p:nvPr/>
          </p:nvCxnSpPr>
          <p:spPr>
            <a:xfrm>
              <a:off x="6674040" y="2592720"/>
              <a:ext cx="112536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2" name=""/>
            <p:cNvCxnSpPr>
              <a:stCxn id="542" idx="2"/>
              <a:endCxn id="543" idx="0"/>
            </p:cNvCxnSpPr>
            <p:nvPr/>
          </p:nvCxnSpPr>
          <p:spPr>
            <a:xfrm flipH="1">
              <a:off x="1582560" y="3850200"/>
              <a:ext cx="192132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3" name=""/>
            <p:cNvCxnSpPr>
              <a:stCxn id="542" idx="2"/>
              <a:endCxn id="544" idx="0"/>
            </p:cNvCxnSpPr>
            <p:nvPr/>
          </p:nvCxnSpPr>
          <p:spPr>
            <a:xfrm flipH="1">
              <a:off x="3357360" y="3850200"/>
              <a:ext cx="146880" cy="51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4" name=""/>
            <p:cNvCxnSpPr>
              <a:stCxn id="542" idx="2"/>
              <a:endCxn id="545" idx="0"/>
            </p:cNvCxnSpPr>
            <p:nvPr/>
          </p:nvCxnSpPr>
          <p:spPr>
            <a:xfrm>
              <a:off x="3503520" y="3850560"/>
              <a:ext cx="1566360" cy="50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55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557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nstances (in space and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D317-6E4D-4829-95C9-75FEB327499E}" type="slidenum">
              <a:t>121</a:t>
            </a:fld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rcRect l="0" t="17547" r="20396" b="0"/>
          <a:stretch/>
        </p:blipFill>
        <p:spPr>
          <a:xfrm>
            <a:off x="228600" y="-52560"/>
            <a:ext cx="8915400" cy="692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D001-2D29-454D-87D9-D1B97CD50353}" type="slidenum">
              <a:t>122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rcRect l="8649" t="17547" r="3289" b="8771"/>
          <a:stretch/>
        </p:blipFill>
        <p:spPr>
          <a:xfrm>
            <a:off x="0" y="-152280"/>
            <a:ext cx="9144000" cy="57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2594-177B-4322-9F3A-0391A21428FD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TO will be part of OB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y of Biomedical Invest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bi.sourceforge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in turn part of the OBO Found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F5D4-0049-4333-83BC-BB8580CFE6AC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rcRect l="0" t="36195" r="72502" b="40039"/>
          <a:stretch/>
        </p:blipFill>
        <p:spPr>
          <a:xfrm>
            <a:off x="762120" y="914400"/>
            <a:ext cx="533376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01F6-0F53-40D4-84DA-703D6675B97D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rcRect l="0" t="26112" r="70805" b="38889"/>
          <a:stretch/>
        </p:blipFill>
        <p:spPr>
          <a:xfrm>
            <a:off x="0" y="0"/>
            <a:ext cx="8653320" cy="691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659D-152A-4867-B588-37A57F296EB5}" type="slidenum">
              <a:t>1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07B2-2E46-4F3E-8437-BB07DF44378F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rcRect l="10698" t="2778" r="0" b="27778"/>
          <a:stretch/>
        </p:blipFill>
        <p:spPr>
          <a:xfrm>
            <a:off x="0" y="357120"/>
            <a:ext cx="9144000" cy="47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7892-1A33-4C4D-83ED-A06EEB2E69BE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6627-A726-4E25-BC73-3509C3560E35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3276720"/>
            <a:ext cx="587376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730F-E747-48E1-B5C3-DC1FACF21F5A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6ECA-0D10-42EA-B03C-724A5ADA94CA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702D-79C4-4B8F-A195-D76EE2EA0D36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91C2-F585-4199-BD39-BFE98AACE45E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Outcom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Administrativ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70B5-EC5C-4635-A2F5-75B07CBE0B10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iv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ity-languag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-gender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55F6-E3E9-4B53-BDB8-DC8B01DA0A2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rcRect l="23028" t="17547" r="7697" b="25161"/>
          <a:stretch/>
        </p:blipFill>
        <p:spPr>
          <a:xfrm>
            <a:off x="0" y="0"/>
            <a:ext cx="9448920" cy="586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1717-62A6-4B55-8805-79A82C5B2D7D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rcRect l="23028" t="19299" r="8553" b="14038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45D7-84C8-4563-98DD-1DC05AED9111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48EF-6B1E-4E23-A117-E6164A601942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3D61-14A4-429F-A7A8-BC8F81CA3FEF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690E-18F5-4313-9B60-B8913EAE923B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Price hasA Denomination InstanceOf Dollar (p. 1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-Unit instanceof System-of-Units (p. 4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ndbook of Ontolog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emantic Web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4B39-DDAC-497F-AD09-B5168E642422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4A5A-2B41-40DD-8995-A9067DE278A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279A-1D89-402D-92F5-9C36CD75ED1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-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??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23E5-9288-4583-8BA8-D093145D0980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6E24-4B6D-4836-981F-E97928E5BC87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Intervention-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res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det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C54A-1F67-4784-B412-0C7457A35D58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6077-BF00-4408-9379-B5CB0D16D40D}" type="slidenum">
              <a:t>145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: Clinical Trial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poi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nical t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vention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ignment of populations to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ex experimental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ll hypothesi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interv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2EEC-5717-4770-9C70-0A4251D6F96D}" type="slidenum">
              <a:t>14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GE idea: use OBI to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sign data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to solve this problem of converting the ontology to a database 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‘instances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ng images (image repositori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on = shared understanding of a body of knowled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run a trial I stick my data in Excell and create a 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atabase, design tables – that’s it – no more anno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data is added regarding provenance, this data was added by A and corrected by Mc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 rare disease people share their data: here’s my data, here’s my data key, 1 is for males, 0 is for fem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ing is lo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UCSF (Clinical Data Repository) neurodegenerative people MS talk to Alzheimer’s they can’t because  (a) because of Hippa, (b) dataschemas are so different, (c) response to NIH: they put their excell spreadsheet out there, well gee whizz, (d) PharmGKB faced problems because of this (e) more obtuse the better. I can get another paper out of this d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possibility of meta-analysis –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posite of biologists’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5F32-4352-4B51-89F3-2F530D70DC30}" type="slidenum">
              <a:t>147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104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 of the Onto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gy of Biomedical Investig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nks to Trish Whetzel on behalf of the FuGO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80C7-2899-4617-9417-65479EF69BA6}" type="slidenum">
              <a:t>148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a resource for the unambiguous description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iomedical investig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ch as the design, protocols and instrumentation, material, data and types of analysis on the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designed to model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consistent annotation of data across differen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biologic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able powerful concept-driven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semantically-driven data 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CF9A-1444-4C72-AFF8-14562E850C92}" type="slidenum">
              <a:t>149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: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ntological Engineering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Semantic Web 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=def. a spatial point identified by a name (p.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ivalPlace =def. a journey ends at a location (p. 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t =def. ternary relation that holds between a frame, a slot, and the facet (p. 51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AD5B-FF2D-4A5F-8671-713FE98768A3}" type="slidenum">
              <a:t>15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1668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Motivation for 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ization efforts in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biological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ynt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ata exchange 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vide a mechanism for software interoperability, e.g. FuGE 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man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Controlled vocabularies or 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 commonalities for annotation term needs across domains to describe an investigation/study/experiment, e.g. F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3989-8C07-47F6-8E40-B8FD3EA1EC6E}" type="slidenum">
              <a:t>150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medical Investigation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76320" y="1981080"/>
          <a:ext cx="3220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3220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429000" y="2590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terial and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9718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nipulations or perturbations or observations performed on the material to meet the general aim of the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39625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he material was prepared for analysis - e.g. labeling, protein diges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9000" y="46483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instrument and settings that wer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52578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sults from the instrument, e.g. what units are re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594360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ype analysis performed to confirm/deny the hypothesis, e.g. clus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429000" y="1905120"/>
            <a:ext cx="5410080" cy="703800"/>
            <a:chOff x="3429000" y="1905120"/>
            <a:chExt cx="5410080" cy="703800"/>
          </a:xfrm>
        </p:grpSpPr>
        <p:sp>
          <p:nvSpPr>
            <p:cNvPr id="658" name=""/>
            <p:cNvSpPr/>
            <p:nvPr/>
          </p:nvSpPr>
          <p:spPr>
            <a:xfrm>
              <a:off x="3429000" y="1905120"/>
              <a:ext cx="541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cribe the design and purpose or general aim of the the Investiga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1981080"/>
              <a:ext cx="5257800" cy="533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429000" y="2666880"/>
            <a:ext cx="5334120" cy="304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3048120"/>
            <a:ext cx="5334120" cy="91440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4038480"/>
            <a:ext cx="5334120" cy="6098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29000" y="4724280"/>
            <a:ext cx="5334120" cy="5335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5334120"/>
            <a:ext cx="5334120" cy="6094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6019920"/>
            <a:ext cx="5334120" cy="8380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AFBE-FB36-422F-AF27-EDE98AA01AB6}" type="slidenum">
              <a:t>151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trategy Deci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nified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is identified early in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al/Common terms are defined by all those collabo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bi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rms can be added as needed by collabo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needed to develop the on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2600" y="2057040"/>
            <a:ext cx="414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dependent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 ‘Ontology’ in a time frame limited only by the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of different working polic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f different top level cla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at lower levels of the ontology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6F9A-6F0C-46D2-ABD9-6E6681141A76}" type="slidenum">
              <a:t>152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llect Use Cases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examples of investigations as performed within a community and present Use Cases to developers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tom up approach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entify concepts to describe using controlled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terms and their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n terms in the top level ontology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p down approach - collaborative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ild a top level ontology structure, is_a (vertic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ke a list of other foreseen (horizont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view how Top Level Nodes fit in with the Upper Level Ont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037E-37EE-4462-9184-8FF330204E61}" type="slidenum">
              <a:t>153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- Top Level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 on another 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nvironment (depend on the set of ranges of conditions, e.g. geographic lo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Characteristics (entity that can be measured, e.g. temperature, un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alizable: an entity that is realizable through a process (executed/r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oftware (a set of machine instru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esign (the plan that can be realized in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ole (the part played by an entity within the context of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s on its 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ll physical entity (instrument, technology platform, document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iological material (organism, popul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ccurre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occurs/unfold i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emporal Regions, Spatio-Temporal Regions (single actions or Eve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vestigation (the entire ‘experimental’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tudy (process of acquiring and treating the biological mater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ssay (process of performing some tests and recording the resul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EA62-0718-468C-B94B-DC51E3DBE003}" type="slidenum">
              <a:t>154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erging FuGO Design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O Foundry ontology, utilize ontology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herit top level classes from an Upper Level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the Relation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llow additional OBO Foundry princip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Facilitates interoperability with other OBO Foundry 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recommendations for naming conventions and 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rmat for term names, e.g. underscore vs. camel case, no pur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Alphanumeric identifier for terms, I.e. something that does not have semantic mea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chanisms for adding synonym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pen source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égé/OW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Weekly conference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hared environment using Sourceforge (SF) and SF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6EFC-8C92-4BCD-8188-F2CF0E834EBF}" type="slidenum">
              <a:t>155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inning process -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Reconciliations into one canonical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Iterativ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Common 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king practices - establi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class consists of: unique alphanumeric identifier, human readable string name, definition and com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forge tracker in place to collect comments on terms, definitions,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ntology so that top level classes meet the needs of all involved ‘communities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D3F5-17DB-49B6-B9B9-55251269194A}" type="slidenum">
              <a:t>15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Collaborating Commun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 sciences Generation Challenge Programme (GCP), www.generationcp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al 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omic Standards Consortium (GSC), www.genomics.ceh.ac.uk/genomecatalog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PO Proteomics Standards Initiative (PSI), psidev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ology Database and Analysis Portal, www.immport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e Epitope Database and Analysis Resource (IEDB), http://www.immuneepitope.org/home.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Society for Analytical Cytology, http://www.isac-net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bolomics Standards Initiative (MSI), msi.workgroups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rogenetics, Biomedical Informatics Research Network (BIRN), www.nbirn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xico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omics MGED Ontology Group, mged.sourceforge.net/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804F-3F2D-48E7-A665-2530A9556534}" type="slidenum">
              <a:t>157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oidy level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is a model organism - Locate in XML Schema or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or the description of the biological material sequenced (isolate, soil sample etc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st - point to the NCBI Tax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lth/disease status of source host at time of collection - point to Diseas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3BE1-B929-4EF3-8AB6-35463C42E668}" type="slidenum">
              <a:t>158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sample - Point to Unit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strategy (was it enriched, screened, normalized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preparation (DNA extraction method and amplific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DA, emPCR, plones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ing Method Used (e.g. dideoxysequencing, pyrosequencing, polony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FB27-269B-4EAD-BD5E-93040777E467}" type="slidenum">
              <a:t>159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FC55-BC83-4586-9B6A-BBBFC9225551}" type="slidenum">
              <a:t>1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mbly (assembly method, estimated error rate and method of calculation)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ication (binning) method for fragments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9E25-438F-4DEE-84BD-995DF76449EF}" type="slidenum">
              <a:t>160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chanisms for GSC to Contribute to Fu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 involved in standardiz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nefit - choice in where to encounter tha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oice of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nds the work done by all those collaborating for use by a give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lap of terms at lower levels of the ontology tr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ed to re-build when top-level cha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EC31-C498-48FD-B020-A281A11489A6}" type="slidenum">
              <a:t>16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23880" y="4724280"/>
            <a:ext cx="61722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03440" y="48006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ttp://fugo.sourceforge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FC5E-EA49-4AD3-92DA-BA73CFAB059B}" type="slidenum">
              <a:t>162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2E15-DDE5-49EB-90C0-835090B7DF4C}" type="slidenum">
              <a:t>163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D1C5-43BC-4B54-9F96-DB82B1106CB7}" type="slidenum">
              <a:t>164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CD89-AB9C-42D8-91F7-65EF9B0731D0}" type="slidenum">
              <a:t>165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D2F7-8893-411A-98DA-53DAD5FD8CA8}" type="slidenum">
              <a:t>16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B1F5-E626-43C3-8C83-5BD5B3D417A1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basic disti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cience tex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di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 Maximili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1A43-E515-4F8D-8D78-AABBFE3415E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nces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atabas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3000" y="2057040"/>
            <a:ext cx="796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neraliz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are important = universals, types, kinds,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310A-6FB7-4CE2-A6AD-71E3C58C89C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8120" y="-22860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talog vs.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580E-A728-4EC2-97BE-BF5FB3225B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ion of the NCB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reate software and support services for science-based ontology development and use in the biomedical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ontologies for support of scientific research (taken as encompassing evidence-based medic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using the scientific method as part of the process of ontology development and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C065-32F6-466F-869B-90484E244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vs.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92" t="22228" r="3704" b="14819"/>
          <a:stretch/>
        </p:blipFill>
        <p:spPr>
          <a:xfrm>
            <a:off x="0" y="1994040"/>
            <a:ext cx="9144000" cy="34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4920" y="1981080"/>
          <a:ext cx="9032760" cy="3479400"/>
        </p:xfrm>
        <a:graphic>
          <a:graphicData uri="http://schemas.openxmlformats.org/drawingml/2006/table">
            <a:tbl>
              <a:tblPr/>
              <a:tblGrid>
                <a:gridCol w="2860200"/>
                <a:gridCol w="3086280"/>
                <a:gridCol w="3086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649C-6C02-4E5D-AC03-0C4B26690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of Universals/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320" y="1981080"/>
          <a:ext cx="8991360" cy="3479760"/>
        </p:xfrm>
        <a:graphic>
          <a:graphicData uri="http://schemas.openxmlformats.org/drawingml/2006/table">
            <a:tbl>
              <a:tblPr/>
              <a:tblGrid>
                <a:gridCol w="2795400"/>
                <a:gridCol w="3097440"/>
                <a:gridCol w="30985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0FB6-D8A4-4C6E-82CD-1407265AD2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    Universals    Insta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04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05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105" idx="4"/>
                <a:endCxn id="107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07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"/>
              <p:cNvCxnSpPr>
                <a:stCxn id="107" idx="4"/>
                <a:endCxn id="112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4" name=""/>
            <p:cNvCxnSpPr>
              <a:stCxn id="115" idx="4"/>
              <a:endCxn id="116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17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18" name=""/>
              <p:cNvCxnSpPr>
                <a:stCxn id="119" idx="4"/>
                <a:endCxn id="115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15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6" idx="4"/>
              <a:endCxn id="123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27" name=""/>
            <p:cNvCxnSpPr>
              <a:stCxn id="116" idx="4"/>
              <a:endCxn id="124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26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"/>
              <p:cNvCxnSpPr>
                <a:stCxn id="126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31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"/>
              <p:cNvCxnSpPr>
                <a:endCxn id="126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33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752C-7EB5-4360-AF33-5686ECB98122}" type="slidenum">
              <a:t>2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41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42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"/>
              <p:cNvCxnSpPr>
                <a:stCxn id="142" idx="4"/>
                <a:endCxn id="144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45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44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"/>
              <p:cNvCxnSpPr>
                <a:stCxn id="144" idx="4"/>
                <a:endCxn id="149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0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1" name=""/>
            <p:cNvCxnSpPr>
              <a:stCxn id="152" idx="4"/>
              <a:endCxn id="153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54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55" name=""/>
              <p:cNvCxnSpPr>
                <a:stCxn id="156" idx="4"/>
                <a:endCxn id="152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7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52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3" idx="4"/>
              <a:endCxn id="160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3" idx="4"/>
              <a:endCxn id="161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63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7" name=""/>
              <p:cNvCxnSpPr>
                <a:stCxn id="163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68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endCxn id="163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70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03CE-ED97-4B99-9F2E-D0E5567DB0E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76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77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8" name=""/>
              <p:cNvCxnSpPr>
                <a:stCxn id="177" idx="4"/>
                <a:endCxn id="179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0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79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3" name=""/>
              <p:cNvCxnSpPr>
                <a:stCxn id="179" idx="4"/>
                <a:endCxn id="184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5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"/>
            <p:cNvCxnSpPr>
              <a:stCxn id="187" idx="4"/>
              <a:endCxn id="188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89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90" name=""/>
              <p:cNvCxnSpPr>
                <a:stCxn id="191" idx="4"/>
                <a:endCxn id="187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92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87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8" idx="4"/>
              <a:endCxn id="195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99" name=""/>
            <p:cNvCxnSpPr>
              <a:stCxn id="188" idx="4"/>
              <a:endCxn id="196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98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"/>
              <p:cNvCxnSpPr>
                <a:stCxn id="198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203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4" name=""/>
              <p:cNvCxnSpPr>
                <a:endCxn id="198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05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1447920"/>
            <a:ext cx="5410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node of an ontology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ferred term (aka 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rm identifier (TUI, aka C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tion, glosse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5F15-5E69-4061-BD0F-828A995472B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y is a representation of univers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about universals in reality from looking at the results of scientific experiments in the form of scientific theories – which describe not what is particular in reality but what is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437F-0073-4BD7-A0D9-14AD1A67BD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687960" y="3390480"/>
            <a:ext cx="1598400" cy="1410840"/>
            <a:chOff x="687960" y="3390480"/>
            <a:chExt cx="1598400" cy="1410840"/>
          </a:xfrm>
        </p:grpSpPr>
        <p:sp>
          <p:nvSpPr>
            <p:cNvPr id="215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5" idx="4"/>
              <a:endCxn id="217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>
              <a:off x="68796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217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17" idx="4"/>
              <a:endCxn id="222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25" idx="4"/>
            <a:endCxn id="226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227" name=""/>
          <p:cNvGrpSpPr/>
          <p:nvPr/>
        </p:nvGrpSpPr>
        <p:grpSpPr>
          <a:xfrm>
            <a:off x="5107680" y="572760"/>
            <a:ext cx="1750680" cy="1410840"/>
            <a:chOff x="5107680" y="572760"/>
            <a:chExt cx="1750680" cy="1410840"/>
          </a:xfrm>
        </p:grpSpPr>
        <p:cxnSp>
          <p:nvCxnSpPr>
            <p:cNvPr id="228" name=""/>
            <p:cNvCxnSpPr>
              <a:stCxn id="229" idx="4"/>
              <a:endCxn id="225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10768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225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4"/>
            <a:endCxn id="233" idx="1"/>
          </p:cNvCxnSpPr>
          <p:nvPr/>
        </p:nvCxnSpPr>
        <p:spPr>
          <a:xfrm>
            <a:off x="4876560" y="1998720"/>
            <a:ext cx="1562760" cy="16596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37" name=""/>
          <p:cNvCxnSpPr>
            <a:stCxn id="226" idx="4"/>
            <a:endCxn id="234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236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6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41" name=""/>
            <p:cNvSpPr/>
            <p:nvPr/>
          </p:nvSpPr>
          <p:spPr>
            <a:xfrm>
              <a:off x="424944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endCxn id="236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24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10920" y="4330800"/>
            <a:ext cx="8382600" cy="1917720"/>
            <a:chOff x="610920" y="4330800"/>
            <a:chExt cx="8382600" cy="1917720"/>
          </a:xfrm>
        </p:grpSpPr>
        <p:grpSp>
          <p:nvGrpSpPr>
            <p:cNvPr id="245" name=""/>
            <p:cNvGrpSpPr/>
            <p:nvPr/>
          </p:nvGrpSpPr>
          <p:grpSpPr>
            <a:xfrm>
              <a:off x="610920" y="5410080"/>
              <a:ext cx="8304480" cy="838440"/>
              <a:chOff x="610920" y="5410080"/>
              <a:chExt cx="830448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610920" y="5502240"/>
                <a:ext cx="211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stance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733920" y="5410080"/>
                <a:ext cx="5181480" cy="838440"/>
                <a:chOff x="3733920" y="5410080"/>
                <a:chExt cx="5181480" cy="838440"/>
              </a:xfrm>
            </p:grpSpPr>
            <p:pic>
              <p:nvPicPr>
                <p:cNvPr id="2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39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1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24280" y="5410080"/>
                  <a:ext cx="83844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0773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34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 rot="5383800">
              <a:off x="5984280" y="2249280"/>
              <a:ext cx="912960" cy="5100840"/>
            </a:xfrm>
            <a:custGeom>
              <a:avLst/>
              <a:gdLst>
                <a:gd name="textAreaLeft" fmla="*/ 583200 w 912960"/>
                <a:gd name="textAreaRight" fmla="*/ 913320 w 912960"/>
                <a:gd name="textAreaTop" fmla="*/ 132840 h 5100840"/>
                <a:gd name="textAreaBottom" fmla="*/ 4968000 h 51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f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4295880"/>
            <a:ext cx="1067040" cy="0"/>
          </a:xfrm>
          <a:prstGeom prst="line">
            <a:avLst/>
          </a:prstGeom>
          <a:ln w="57240">
            <a:solidFill>
              <a:srgbClr val="99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4120-E272-44C8-A7BF-9F6DF11973AF}" type="slidenum">
              <a:t>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 portion of reality that forms the subject-matter of a single science or technology or mode of study or administrative practice ...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A831-6069-40CD-98E8-A648921D9C9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C974-D245-41AE-A993-742A2F4AF13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representational artifac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comparable to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ience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FB83-EB80-4EA1-A8E8-81E5C0C99FE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057400"/>
          <a:ext cx="8458200" cy="36576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45DD-A8E9-4FFA-B813-4635351B3A6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ich are minimal (ato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828F-24D5-41CF-A7D3-F8761520FA7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1C60-488D-4E6E-BF68-CCDD06BF52B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92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849560" cy="579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representational units, no ‘atom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CBC4-3795-45BF-958D-73F6F44C7E3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50680" y="944280"/>
            <a:ext cx="7988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3C4F-AAC2-4874-8EDC-01DECD063FCD}" type="slidenum">
              <a:t>33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9544-6F6F-4969-881F-9027FE381A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5400000">
            <a:off x="1090800" y="265968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3867-8685-40C7-8675-3EFCD6240A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4335840" y="1836000"/>
            <a:ext cx="1957320" cy="1181160"/>
          </a:xfrm>
          <a:custGeom>
            <a:avLst/>
            <a:gdLst>
              <a:gd name="textAreaLeft" fmla="*/ 305640 w 1957320"/>
              <a:gd name="textAreaRight" fmla="*/ 1712880 w 195732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A0B3-CD7B-4226-8B46-44CC19D9E18A}" type="slidenum">
              <a:t>3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D56D-41DA-4DCD-99C4-957259A951F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 represent universals in re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8B22-2CDE-4171-8852-0393A2F0CF8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” is not the name of a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D345-2E00-418D-B313-BEDEEA8D4A9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91440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types of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-scienc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pture terminology-level knowledge used by best current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e.g. billing ontologies, bloodbank ontologies, lab workflow ontolog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8C8E-141A-4E83-8C1E-57876428D61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685800" y="4952880"/>
          <a:ext cx="8229600" cy="19116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715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BD14-3ABE-4967-AF06-E3239646647E}" type="slidenum">
              <a:t>40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y vs. Catalo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520" y="3124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BB38-5672-4345-992F-ED5D127A8AF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we know which general terms designate univers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ghly: terms used by scientists to designate entities about which we have a plurality of different kinds of testable pro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cell, electron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116F-86BE-4854-A1C4-3DEB9C0C8DE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fiat demar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over 30 years of age with family history of diabet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curvature of sp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 in trial #20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54C5-C431-4957-B6A4-9A66AE090D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r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A-approved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A2AE-419C-477F-840A-F63543F803B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ministrative ontologies often need to go beyond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on stairs or ladders in water transport injuring occupant of small boat, unpowere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way accident involving collision with rolling stock and injuring pedal cycli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traffic accident involving motor-driven snow vehicle injuring pedestria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A9BE-BDD6-4556-B27A-2D04684748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a,b,c,...}    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34BF-36DC-44FE-86E8-6F878EA6C9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ximal collection of particulars determined by a general 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‘cell’. ‘electron’), (‘ ‘restaurant in Palo Alto’, ‘Italian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22CE-205C-4451-A58A-37582A91B35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general term can be used to refer both to universals and to collections of particulars. Consi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infectious retr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preading very rapidly through A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1A9F-D11C-4473-9CD9-C5DB8FC89B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c,d,e,...}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18924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328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10B0-CE03-4AAC-A404-8B824A44252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tific ontologies have special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term in a scientific ontology must be such that the developers of the ontology believe it to refer to some entity on the basis of the best current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37BE-9626-426F-9E3C-770D8CF1A7F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ens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ension of a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class: instance of 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t is the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class of all entities to which the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appl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FE69-65F5-4DBD-9270-A389A7D54C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72C7-D88A-4FAA-9D3C-88B6374078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C35C-1267-4FC2-A7FE-DD49E096DC9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ss defined by a general term which does not designate a unive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lass of all diabetic patients in Leipzig on 4 June 19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9300-B4BB-45B5-8CBF-0C21B5EFCE6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2495520"/>
            <a:ext cx="84582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bling of Finnish s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mber of Abba aged &gt; 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0FE7-6916-47C8-A794-D8F949BFF09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minology =de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are natural language terms (with IDs, synonyms, comments, etc.) which are intended to designate universals together with defined class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368A-1FCA-402D-B66E-C41BD876323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, classes,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981080"/>
            <a:ext cx="39625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048120"/>
            <a:ext cx="71629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343400"/>
            <a:ext cx="9144000" cy="8380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62920" y="4343400"/>
            <a:ext cx="1981080" cy="838080"/>
            <a:chOff x="7162920" y="4343400"/>
            <a:chExt cx="1981080" cy="838080"/>
          </a:xfrm>
        </p:grpSpPr>
        <p:sp>
          <p:nvSpPr>
            <p:cNvPr id="353" name=""/>
            <p:cNvSpPr/>
            <p:nvPr/>
          </p:nvSpPr>
          <p:spPr>
            <a:xfrm>
              <a:off x="7162920" y="4343400"/>
              <a:ext cx="0" cy="838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2920" y="4343400"/>
              <a:ext cx="1981080" cy="838080"/>
            </a:xfrm>
            <a:prstGeom prst="rect">
              <a:avLst/>
            </a:prstGeom>
            <a:solidFill>
              <a:srgbClr val="99ccff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FC34-9AC5-4510-9671-C23EDC0154D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versals &lt; defined classes &lt; ‘concep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’ which do not correspond to defined 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or other procedure not carried out because of patient's decisio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nippl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C3C7-F353-4674-8D92-6C08AEBC779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cientific) Ontology =de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743120"/>
            <a:ext cx="8458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ose relations between these universals which obtain universally (= for all insta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7946-1882-407F-BECA-98170785042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5B2E-73ED-45DA-9B8F-9CA39348C3F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ability is cru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tibility with neighboring scientific ontologies is cruci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should not be too easy to add new terms to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introduce these features in clinical medicine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A43E-16FD-4404-9762-A5F7E4F94E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scientists to create an initial top-level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~50 most commonly used terms corresponding to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 these terms into an inform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y according to this Universality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is_a 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n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 missing terms to give a complete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ve it to domain scientists to populate the lower levels of the hierarc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A04E-792C-4027-B3BF-BC6807BD2E6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 of Low Hanging Fru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even absolutely trivial assertions (assertions you know to be universally tru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is_a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need to be led by the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9B8A-F058-46A0-AF8B-8FD275ADBA6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opology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260E-0DFB-4EDE-8F7B-BA9E91D311B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ingular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in ontologies represent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91D4-89AA-472D-8A08-F00039B79F7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al: Each term in an ontology represents exactly one univer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8200" y="2514600"/>
            <a:ext cx="6556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universals also of collectiv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x of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481C-C6B4-4AD6-83AA-9E352F33DCB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se-mention con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eptual Entities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 organizational header for concepts representing mostly abstract ent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is healthy and has eight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9816-8000-4F5F-97E9-B1BEA94C959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words an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concepts in our minds and entitie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: avoid the word ‘concept’ entir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BDF1-60C9-47B6-A0BD-06042EE773C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’ = def. ‘a  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CB0F-0190-47DD-9BFB-FFD3F9E6D12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rin therapy’ is an instance of ‘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roblems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misuse of quotation 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onfusion of instances and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onfusion of concept and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25E2-5040-4835-8A57-AE35D905C89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193A-0887-41B0-9CF4-A8306EA935E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ssue of how the ontology will be used is not a factor relevant for determining which entities in the ontology will be selected as universals (types, kinds, ... cla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decision is made on the basis of each specific use, this thwarts reu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2D11-A008-4F75-BA13-0D8FB7D5136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ake of interoperability with other ontologies, do not give special meanings to terms with established general mea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on’t use ‘cell’ when you mean ‘plant cell’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CDD4-FFFD-4936-A6ED-4FDBAAF2A03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NP: International Classification of Nursing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=def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2FD2-628A-4B4E-B312-90FD726BDA2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y definitions wherever pos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oth human-understandable natural language definitions, and equivalent formal defini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B1B4-391D-450F-B39E-2567D691D26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erm should have at most one definition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which may have both natural-language and formal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D91D-6828-4A73-AD90-8CC49E3CD01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7156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blem of Circu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= def. A person with an identity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98B3-76CA-4B66-A8F8-02C3EAC0608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ircular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term defined should not appear in its own defini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867C-C833-4662-8E1B-FEC8D6394A7E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L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pping a medication’ = de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BA46-5D88-4EE5-B569-067618F355A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finition should use terms which are easier to understand than the term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L7 creates a topsy turvy world, in which simple things are made difficul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021D-08EE-4DC0-A98F-5E627004A8D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ristotelian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 is a B which C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56A6-869E-4208-B72F-6CC130361814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seek to define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7A84-5E0B-417D-BFB1-0E67006785C2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ies may be brought into existence by the ontology itself. (Convention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task-dependent – reusability and compatibility not (always)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may invent dummy entities (‘surgical procedure not performed because of patient request’) e.g. for forensic reasons (reality and knowledge are confu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706B-1C39-44D7-AD05-3E14B06B7E4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every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erms and some relations ar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y cannot be defined (on pain of infinite reg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rimitive rel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1A08-CF8F-4781-829C-D5126632DB4E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 good, general constraint on a theory of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2715840"/>
            <a:ext cx="84582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linguistic expression ‘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’ means 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now’ means: 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neumonia’ means: pneumon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31B9-E0FA-4C3B-A247-C1DA9CE0BBD5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L7 Reference Informatio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’ does not mean: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ord of medication in an information system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ping a medication’ does not mean: stopping a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4BAD-F966-41C5-BE92-195DB5743DB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les for formatting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crony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mass terms (‘tissue’, ‘brain mapping’, ‘clinical research’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ach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in an ontology is shorthand for a term of the form ‘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818E-6418-4DC4-8AA0-D1C06B3C326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ocit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hould have the same meanings on every occasion of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y should refer to the same univers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ntological relations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uld be used in the same way by all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4926-9D01-48D2-814E-271F6659687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should include only those relational assertions which hold univers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F46F-FE1D-47FE-B090-9F36150488D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, order will mat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as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ult transformation_of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 transforms_into 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9DF7-1CB1-4A52-9D05-D68980893C9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al pneumonia caused by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0EB4-FBA8-48AA-9719-9291D3DAE54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col-design earlier_than result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ults analysis later_than protocol-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524A-4C15-40C3-B3CE-73AF316DFB5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2277720"/>
            <a:ext cx="84582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ments of universals are not themselves univers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am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embra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ther metalworker in New Zea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7D04-2BC5-4B12-87F6-0831DF7544C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shortfalls of existing administrative ontologies can be overcome by adopting the scientif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, in the long run,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actic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ontolog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 data mod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6EE6-A7D8-4024-9536-28D5EFAC477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tology of universals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gic of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onjunctive and disjunctive universal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atomic structure, system, or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usculoskeletal and connective tissue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heumatism, excluding th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1810-7BC7-43AC-8125-9D0B4CBFEE5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universals exist in reality is not a function of 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class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loc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thropathies not otherwis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8382-308F-4E5F-852A-CF258360798D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ep Epistemology Separate from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852560"/>
            <a:ext cx="8686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 th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not know wher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s with unknown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well-constructed ontology should grow linearly; it should not need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r relations becaus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creas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knowled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E2BF-5B64-4EEF-8D6F-4316FC90585C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surmise that this is a case of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rmised pneumon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ep Sentences Separate from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6B88-13FB-4CEB-8A98-15CCB0E1B271}" type="slidenum">
              <a:t>93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gle Inheri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kind in a classificatory hierarchy should have more than on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ent on the immediate higher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ED8B-A10A-404B-8F53-274A0BEAE55F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1080" y="3637080"/>
            <a:ext cx="33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92640" y="57625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692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244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57760" y="0"/>
            <a:ext cx="1600200" cy="1295280"/>
            <a:chOff x="3857760" y="0"/>
            <a:chExt cx="1600200" cy="1295280"/>
          </a:xfrm>
        </p:grpSpPr>
        <p:sp>
          <p:nvSpPr>
            <p:cNvPr id="441" name=""/>
            <p:cNvSpPr/>
            <p:nvPr/>
          </p:nvSpPr>
          <p:spPr>
            <a:xfrm>
              <a:off x="3857760" y="0"/>
              <a:ext cx="1600200" cy="1295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86360" y="123120"/>
              <a:ext cx="1143000" cy="986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1F4B-6851-4C1B-ADF2-4A41D65EA916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5960" y="2499840"/>
            <a:ext cx="82231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ource of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laz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as obstacle to integration with neighboring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Aristotelian methodology for defining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statistical search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857760" y="0"/>
            <a:ext cx="1600200" cy="1600200"/>
            <a:chOff x="3857760" y="0"/>
            <a:chExt cx="1600200" cy="1600200"/>
          </a:xfrm>
        </p:grpSpPr>
        <p:sp>
          <p:nvSpPr>
            <p:cNvPr id="446" name=""/>
            <p:cNvSpPr/>
            <p:nvPr/>
          </p:nvSpPr>
          <p:spPr>
            <a:xfrm>
              <a:off x="3857760" y="0"/>
              <a:ext cx="16002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86360" y="152280"/>
              <a:ext cx="114300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5161-DD07-4FA9-A480-22B5603656B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3280" y="35812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67880" y="57913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0520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0072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857760" y="0"/>
            <a:ext cx="1600200" cy="1447920"/>
            <a:chOff x="3857760" y="0"/>
            <a:chExt cx="1600200" cy="1447920"/>
          </a:xfrm>
        </p:grpSpPr>
        <p:sp>
          <p:nvSpPr>
            <p:cNvPr id="457" name=""/>
            <p:cNvSpPr/>
            <p:nvPr/>
          </p:nvSpPr>
          <p:spPr>
            <a:xfrm>
              <a:off x="3857760" y="0"/>
              <a:ext cx="1600200" cy="1447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6360" y="137520"/>
              <a:ext cx="1143000" cy="110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6E51-D14E-40F6-A22E-6C7C3A0A7EDE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s_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Overlo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ccess of ontology alignment demands that ontological relations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, part_of, 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have the same meanings in the different ontologies to be alig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681F-07D4-401A-AB78-DE2CDEEE73E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i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anings of compound terms should be determ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by the meanings of component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gether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rules governing syn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06F5-D3A6-4DFA-AC5B-C821BCA6032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45:10Z</dcterms:created>
  <dc:creator>phismith</dc:creator>
  <dc:description/>
  <dc:language>en-US</dc:language>
  <cp:lastModifiedBy>Barry Smith</cp:lastModifiedBy>
  <dcterms:modified xsi:type="dcterms:W3CDTF">2006-10-25T21:39:39Z</dcterms:modified>
  <cp:revision>91</cp:revision>
  <dc:subject/>
  <dc:title>NIH VISION THING</dc:title>
</cp:coreProperties>
</file>